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.png" ContentType="image/png"/>
  <Override PartName="/ppt/media/image6.wmf" ContentType="image/x-wmf"/>
  <Override PartName="/ppt/media/image28.jpeg" ContentType="image/jpeg"/>
  <Override PartName="/ppt/media/image35.wmf" ContentType="image/x-wmf"/>
  <Override PartName="/ppt/media/image37.wmf" ContentType="image/x-wmf"/>
  <Override PartName="/ppt/media/image46.jpeg" ContentType="image/jpeg"/>
  <Override PartName="/ppt/media/image41.wmf" ContentType="image/x-wmf"/>
  <Override PartName="/ppt/media/image43.png" ContentType="image/png"/>
  <Override PartName="/ppt/media/image53.jpeg" ContentType="image/jpeg"/>
  <Override PartName="/ppt/media/image45.png" ContentType="image/png"/>
  <Override PartName="/ppt/media/image30.wmf" ContentType="image/x-wmf"/>
  <Override PartName="/ppt/media/image42.jpeg" ContentType="image/jpeg"/>
  <Override PartName="/ppt/media/image39.wmf" ContentType="image/x-wmf"/>
  <Override PartName="/ppt/media/image9.wmf" ContentType="image/x-wmf"/>
  <Override PartName="/ppt/media/image51.wmf" ContentType="image/x-wmf"/>
  <Override PartName="/ppt/media/image40.wmf" ContentType="image/x-wmf"/>
  <Override PartName="/ppt/media/image34.jpeg" ContentType="image/jpeg"/>
  <Override PartName="/ppt/media/image48.jpeg" ContentType="image/jpeg"/>
  <Override PartName="/ppt/media/image50.wmf" ContentType="image/x-wmf"/>
  <Override PartName="/ppt/media/image54.jpeg" ContentType="image/jpeg"/>
  <Override PartName="/ppt/media/image52.jpeg" ContentType="image/jpeg"/>
  <Override PartName="/ppt/media/image33.wmf" ContentType="image/x-wmf"/>
  <Override PartName="/ppt/media/image44.png" ContentType="image/png"/>
  <Override PartName="/ppt/media/image13.jpeg" ContentType="image/jpeg"/>
  <Override PartName="/ppt/media/image12.wmf" ContentType="image/x-wmf"/>
  <Override PartName="/ppt/media/image11.jpeg" ContentType="image/jpeg"/>
  <Override PartName="/ppt/media/image47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4.jpeg" ContentType="image/jpe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A7C7-6D9A-4E38-8833-68C67A64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dd harmonics of the “fundamental frequency in a symmetric, 50% duty cycle, periodic signal.  Even harmonics sound B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“Fourier Series” where each frequency component is represented by an “Impulse Function” at that component’s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: http://doctord.webhop.net/courses/tutorials/Generalized_Fourier_Ser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5262-7DF2-48BD-8EBB-0AFA2150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sine wave”, Va is the “peak voltage”; T is the “Period”; f = 1/T is the frequency in Hz (cycles/second);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 is also the frequency in radians/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3B1D-EB31-4D4C-8343-9A08D2AB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agnitude of the Fourier Transform.  The Fourier Transform is the limiting case of a Fourier series as you increase the waveform period to ∞.  It is analogous to a pressure whereas the Fourier series is analogous to a set of discrete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: http://doctord.webhop.net/courses/tutorials/Fourier_Transfor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8BD6-192F-40A7-ADEB-674DBD644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n Analog world (as long as we ignore Quantum Mechan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computer lives in a Digital World which has understandable differences from our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y Tutorial on Sampling at http://DoctorD.webhop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2A44-A94C-4F34-9089-37DC69B9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E2CA-0554-4716-9810-5250A286C3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D142-F6C4-47AB-B3E5-80B39A960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a clock input to set the “Sampling Rate” which must be faster than twice the highest frequency in the analog sign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“Nyquist Rate”) so that the D/A process can be done accurately (no “Aliasing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/Digital conversion (and reconstruction – D/A conversion) see http:/doctord.webhop.net/courses/tutorials/Samplin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opics are fully investigated in a “Signals and Systems” course (EE301 here at Fairfiel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156F-9879-4A02-A986-0E6FE9E6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ampling” (A/D conversion) and “Reconstruction” (D/A) processes form the connection between the Analog world (where we live) and the universe as seen by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BEA9-3E27-4915-BE84-4B2BDCDC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d signals are “Discrete-Time”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Signals also have discret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is a particular number system used to represent the “Quantized” sample values.  We sometimes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al (Base “8” – 3 bits/word) or Hex (Base “16” – 4 bits/word) as shorthand number systems to represent a bin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4B6A-8223-4F8F-A315-D856983C1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amplification is a function of the impedances (Input &amp; Output) as well as voltage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46B-C4F1-4F7D-B531-60353597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Amplifiers were introduced in your Circuits course(s) and will be used in the associated laboratory to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ended (balanced) input and output (differential mode signals).  This configuration attempts to reject common mode signals at the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ended (unbalanced) input and output (common mode sign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7BB6-D782-41ED-BE90-21497AD3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work at D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out = power in (No Power Gain, Some power l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C651-F24C-44D7-A3B7-248AC262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know how to deal with logarithms and their inverse, the exponent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3A43-B3B5-41E2-9E9E-A1C99E7B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CC” relates to the “collector” of an npn, bipolar transi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“EE” relates to the emitter of an npn, bipolar transi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rms are used generically in circuits using other components.  In an earlier era we used notation from Vacuum Tu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32CC-CF76-4B1F-9A15-7CACB34DA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(Power delivered to the load)/(Power supplied to Amplifi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es the rest of the power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64F1-7F98-4A62-BD88-C2F85C05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metr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± power suppl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llow the inputs/outputs to swing symmetrically +/- and signals can approach the “rails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nd on the OpAmp is show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 It is the other differential input (no input signal) that is gr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F794-60E4-4CD8-95A1-419A8649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previous work (LTI systems), the world was assumed to be linear so that “superposition” could be us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is non-linear and we must learn to deal with 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always do a “Small Signal Analysis” where an assumption of linearity is still reasonably accur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of the device operational curve(s) at the “Quiescent Point” determines the small signal para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t of curves indicate that there would be “soft clipping” of the signal as the output signal approached the “rail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26D5-0553-4EB6-B52D-29FBE40E0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ssumes linear behavior.  Amplifiers can exhibit non-linear behavior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6808-E72D-4989-B2A4-E5ADA77D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nonlinear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B965-9489-4715-A2D6-43985EEF4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real OpAmps are not quite “Ide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CEAB-E67A-4D0E-8037-8F4E596E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vices do exist as integrated cicuit products that we can use in our de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5BAE-75CF-44B7-94E2-1D6DC6B3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EC07-0AB5-4915-93C3-6DAE430B0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vary the “load” resistor to determine the output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CF2-5129-42E3-834E-DE4CB09C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polar transistor is best modeled as a current controlled current amplif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7DC6-495D-497C-AF55-9B6B8A0F4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only a small signal model! As the input actually looks like a diode, not a resist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exhibits Saturation and Cutoff nonlinea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EC3A-06DF-41F4-90A5-1EE786799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* (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* (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5EB-C33D-4A2B-9C50-D840E9EFA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why we (EEs) use single frequency analys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ay that is often used to measure frequency response is to apply a “white noise” signal and examine the output “spectrum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447E-2368-43C0-8F27-19ACB3D90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” in shape as in simi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1B4C-D31C-4E39-9E5F-8CCE8FA8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 shift is related to “Delay” by the frequency (actually the period) of th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should be in Radians but is commonly stated in deg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33AF-EF1D-4B39-A7F6-634A77759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db points are the “half power” points of the frequency response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5E94-E041-4CC4-958F-391132B71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from your circuits cou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EDC5-0A7D-4F96-8AFE-F779DFA3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C circuits were studied in the first Circuit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38A2-06BB-4930-90CF-C187B443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e Plots are a major subject in the AC circuits course (EE221 at Fairfield) and again in both Signals and Systems (EE301 at Fairfield) and Feedback Control (EE302, MC300 at Fairfield)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9E58-FBD1-42CE-912B-B312ACAF8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expected to be proficient in all of the basic passive circuit analysis techniques.  Examples here are Thevenin and Norton equivalent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0DDE-BA5F-4185-9425-09BBD80E4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B per decade (factor of 10 in frequency) equates to 6 dB per “Octa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ctave is the range over which the frequency is doubled (from musi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4E2-37F6-4BEC-97D0-9BA0BA8C6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ing capacitors block “DC” so that you can separately “bias” each amplifier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919D-499B-46B7-9F95-E80322D3D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y Generalized Fourier Series Tutorial at:  http://DoctorD.webhop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83CF-7EF9-407C-8253-134A1265C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used is the Complex Exponential form which is related to the Sine-Cosine form by the Euler re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(x) =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j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-j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(x) =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j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-j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8799-3FD4-4A7B-B603-011A4807C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6020-9DE8-4CDB-A77B-59C046883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CAEF6-0790-4174-80B5-890B682DF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CD2B-C91C-496D-9B2D-3967070DE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3E23-ABDA-429A-97A9-933FF4650B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E6FA-AA49-485F-8510-B950472B0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F216-13F0-403B-A451-7386CA328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8EA4-6A5E-4F12-9886-EE5B8D1B9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AE2F-402A-4A98-B7BC-5A7A82DF3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43D3-F7B5-405A-B6BE-BD20580DA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8ADB-E550-48D0-8E7D-298EDD4E4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7EEA-8A16-4D47-9AB7-15B594D7A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9AD9-DA0F-4151-A3D4-5DFCFFF0A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833-4BC2-4E81-90AE-B164239F4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2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3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Chapter #1: Signals and Amplifiers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981080"/>
            <a:ext cx="449568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a Fourier Series?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one calcul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urier Ser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square wave bel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upcoming slid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se01F05"/>
          <p:cNvPicPr/>
          <p:nvPr/>
        </p:nvPicPr>
        <p:blipFill>
          <a:blip r:embed="rId1"/>
          <a:stretch/>
        </p:blipFill>
        <p:spPr>
          <a:xfrm>
            <a:off x="1981080" y="3505320"/>
            <a:ext cx="516420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ier Series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1447920" y="2362320"/>
          <a:ext cx="619740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19740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ier Series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1922400" y="2057400"/>
          <a:ext cx="539280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2057400"/>
                    <a:ext cx="539280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ier Series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907920" y="1981080"/>
          <a:ext cx="732168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981080"/>
                    <a:ext cx="73216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4038480" y="150840"/>
            <a:ext cx="49532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series may be truncated because the magnitude of each terms decreases with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1981080"/>
            <a:ext cx="43434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ier Series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se01F06"/>
          <p:cNvPicPr/>
          <p:nvPr/>
        </p:nvPicPr>
        <p:blipFill>
          <a:blip r:embed="rId1"/>
          <a:stretch/>
        </p:blipFill>
        <p:spPr>
          <a:xfrm>
            <a:off x="907920" y="2133720"/>
            <a:ext cx="7321680" cy="356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914400" y="5791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6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e frequency spectrum (also known as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line spectr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) of the periodic square wave of Fig. 1.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1981080"/>
            <a:ext cx="4343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requency Spectrum of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the sinusoidal wave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380880" y="3583080"/>
          <a:ext cx="284328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83080"/>
                    <a:ext cx="28432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6" descr="se01F04"/>
          <p:cNvPicPr/>
          <p:nvPr/>
        </p:nvPicPr>
        <p:blipFill>
          <a:blip r:embed="rId3"/>
          <a:stretch/>
        </p:blipFill>
        <p:spPr>
          <a:xfrm>
            <a:off x="3352680" y="2743200"/>
            <a:ext cx="5486400" cy="307980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 flipV="1">
            <a:off x="5410080" y="449532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52280" y="5759280"/>
            <a:ext cx="62485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oot mean square magnitud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sine wave amplitude / square root of tw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762120" y="2057400"/>
            <a:ext cx="32763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617220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quency Spectrum of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urier Trans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pplied to a non-periodic function of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, however (as opposed to a discrete frequency spectrum) it will yiel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tinuo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se01F03"/>
          <p:cNvPicPr/>
          <p:nvPr/>
        </p:nvPicPr>
        <p:blipFill>
          <a:blip r:embed="rId1"/>
          <a:stretch/>
        </p:blipFill>
        <p:spPr>
          <a:xfrm>
            <a:off x="152280" y="4379760"/>
            <a:ext cx="411480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se01F07"/>
          <p:cNvPicPr/>
          <p:nvPr/>
        </p:nvPicPr>
        <p:blipFill>
          <a:blip r:embed="rId2"/>
          <a:stretch/>
        </p:blipFill>
        <p:spPr>
          <a:xfrm>
            <a:off x="4800600" y="39625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/>
          <p:cNvSpPr/>
          <p:nvPr/>
        </p:nvSpPr>
        <p:spPr>
          <a:xfrm>
            <a:off x="2438280" y="4111560"/>
            <a:ext cx="2130480" cy="1069920"/>
          </a:xfrm>
          <a:prstGeom prst="rightArrow">
            <a:avLst>
              <a:gd name="adj1" fmla="val 50000"/>
              <a:gd name="adj2" fmla="val 49781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og and Digital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analog signa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ontinuous with respect to both value and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screte-time sig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continuous with respect to value bu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ampl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discrete points 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gital sig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quantiz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pplied to values) as well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amp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discrete points 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2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- Fifth Edition    Sedra/Sm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162C-F628-4FAA-B705-360D6B503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075" descr="sedr42021_0109"/>
          <p:cNvPicPr/>
          <p:nvPr/>
        </p:nvPicPr>
        <p:blipFill>
          <a:blip r:embed="rId1"/>
          <a:stretch/>
        </p:blipFill>
        <p:spPr>
          <a:xfrm>
            <a:off x="1816200" y="2590920"/>
            <a:ext cx="5575320" cy="16095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077"/>
          <p:cNvSpPr/>
          <p:nvPr/>
        </p:nvSpPr>
        <p:spPr>
          <a:xfrm>
            <a:off x="380880" y="5715000"/>
            <a:ext cx="8763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Figure 1.9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lock-diagram representation of the analog-to-digital converter (ADC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85800" y="2133720"/>
            <a:ext cx="327672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og and Digital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se01F03"/>
          <p:cNvPicPr/>
          <p:nvPr/>
        </p:nvPicPr>
        <p:blipFill>
          <a:blip r:embed="rId1"/>
          <a:stretch/>
        </p:blipFill>
        <p:spPr>
          <a:xfrm>
            <a:off x="990720" y="2057400"/>
            <a:ext cx="3446280" cy="1628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se01F08"/>
          <p:cNvPicPr/>
          <p:nvPr/>
        </p:nvPicPr>
        <p:blipFill>
          <a:blip r:embed="rId2"/>
          <a:stretch/>
        </p:blipFill>
        <p:spPr>
          <a:xfrm>
            <a:off x="1066680" y="4267080"/>
            <a:ext cx="7088400" cy="1878120"/>
          </a:xfrm>
          <a:prstGeom prst="rect">
            <a:avLst/>
          </a:prstGeom>
          <a:ln w="0">
            <a:noFill/>
          </a:ln>
        </p:spPr>
      </p:pic>
      <p:sp>
        <p:nvSpPr>
          <p:cNvPr id="144" name="Line 5"/>
          <p:cNvSpPr/>
          <p:nvPr/>
        </p:nvSpPr>
        <p:spPr>
          <a:xfrm>
            <a:off x="6705720" y="36576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3962160" y="2895480"/>
            <a:ext cx="160020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7"/>
          <p:cNvSpPr/>
          <p:nvPr/>
        </p:nvSpPr>
        <p:spPr>
          <a:xfrm flipH="1">
            <a:off x="4114800" y="22860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257800" y="1981080"/>
            <a:ext cx="2666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alog sig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257800" y="2666880"/>
            <a:ext cx="3657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screte-time sig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248520" y="3352680"/>
            <a:ext cx="2666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gital sig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onic circuits process sign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us understanding electrical signals is essential to appreciating the material in this bo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 and Nort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s of signal sour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presentation of a signal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m of sine wa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alog and digit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resentations of a sig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9" descr="se01F08"/>
          <p:cNvPicPr/>
          <p:nvPr/>
        </p:nvPicPr>
        <p:blipFill>
          <a:blip r:embed="rId1"/>
          <a:stretch/>
        </p:blipFill>
        <p:spPr>
          <a:xfrm>
            <a:off x="1066680" y="4267080"/>
            <a:ext cx="7088400" cy="1878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se01F03"/>
          <p:cNvPicPr/>
          <p:nvPr/>
        </p:nvPicPr>
        <p:blipFill>
          <a:blip r:embed="rId2"/>
          <a:stretch/>
        </p:blipFill>
        <p:spPr>
          <a:xfrm>
            <a:off x="990720" y="2057400"/>
            <a:ext cx="3446280" cy="1628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2"/>
          <p:cNvSpPr/>
          <p:nvPr/>
        </p:nvSpPr>
        <p:spPr>
          <a:xfrm>
            <a:off x="533520" y="1981080"/>
            <a:ext cx="79246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og and Digital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15238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6765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8288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19810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21337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2860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4382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25909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27432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8954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30481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32004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33526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35053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36576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6"/>
          <p:cNvSpPr/>
          <p:nvPr/>
        </p:nvSpPr>
        <p:spPr>
          <a:xfrm>
            <a:off x="38098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39625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148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42670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13716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5105520" y="45720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5105520" y="441972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33"/>
          <p:cNvSpPr/>
          <p:nvPr/>
        </p:nvSpPr>
        <p:spPr>
          <a:xfrm>
            <a:off x="5105520" y="47242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34"/>
          <p:cNvSpPr/>
          <p:nvPr/>
        </p:nvSpPr>
        <p:spPr>
          <a:xfrm>
            <a:off x="5105520" y="487692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35"/>
          <p:cNvSpPr/>
          <p:nvPr/>
        </p:nvSpPr>
        <p:spPr>
          <a:xfrm>
            <a:off x="5105520" y="50292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36"/>
          <p:cNvSpPr/>
          <p:nvPr/>
        </p:nvSpPr>
        <p:spPr>
          <a:xfrm>
            <a:off x="510552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5105520" y="533412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38"/>
          <p:cNvSpPr/>
          <p:nvPr/>
        </p:nvSpPr>
        <p:spPr>
          <a:xfrm>
            <a:off x="5105520" y="54864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5105520" y="56386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105520" y="579132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105520" y="59436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44"/>
          <p:cNvSpPr/>
          <p:nvPr/>
        </p:nvSpPr>
        <p:spPr>
          <a:xfrm rot="5400000">
            <a:off x="1333080" y="3085920"/>
            <a:ext cx="2743200" cy="1447920"/>
          </a:xfrm>
          <a:prstGeom prst="rightArrow">
            <a:avLst>
              <a:gd name="adj1" fmla="val 50000"/>
              <a:gd name="adj2" fmla="val 47364"/>
            </a:avLst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45"/>
          <p:cNvSpPr/>
          <p:nvPr/>
        </p:nvSpPr>
        <p:spPr>
          <a:xfrm rot="5400000">
            <a:off x="1842840" y="34430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47"/>
          <p:cNvSpPr/>
          <p:nvPr/>
        </p:nvSpPr>
        <p:spPr>
          <a:xfrm>
            <a:off x="3429000" y="4419720"/>
            <a:ext cx="2743200" cy="1447560"/>
          </a:xfrm>
          <a:prstGeom prst="rightArrow">
            <a:avLst>
              <a:gd name="adj1" fmla="val 50000"/>
              <a:gd name="adj2" fmla="val 47376"/>
            </a:avLst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8"/>
          <p:cNvSpPr/>
          <p:nvPr/>
        </p:nvSpPr>
        <p:spPr>
          <a:xfrm>
            <a:off x="3505320" y="48308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uant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og and Digital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81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digital and binary synonymo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.  The binary number system (bas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one way to represent digital sig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317840" y="4495680"/>
          <a:ext cx="4140360" cy="21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4495680"/>
                    <a:ext cx="414036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Picture 9" descr="se01F08"/>
          <p:cNvPicPr/>
          <p:nvPr/>
        </p:nvPicPr>
        <p:blipFill>
          <a:blip r:embed="rId3"/>
          <a:stretch/>
        </p:blipFill>
        <p:spPr>
          <a:xfrm>
            <a:off x="0" y="2133720"/>
            <a:ext cx="3733920" cy="187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se01F09"/>
          <p:cNvPicPr/>
          <p:nvPr/>
        </p:nvPicPr>
        <p:blipFill>
          <a:blip r:embed="rId4"/>
          <a:stretch/>
        </p:blipFill>
        <p:spPr>
          <a:xfrm>
            <a:off x="277920" y="4268880"/>
            <a:ext cx="3456000" cy="1674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1447920" y="2590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295280" y="4572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gital and bi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gnal 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eed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many transducers yield output 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 power lev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inear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property of an amplifier which ensures a signal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“altered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mpl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stor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an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intended chan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al Amplific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used to boost voltage levels f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reased re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ower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to boost current levels f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reased “intensity”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2857680" y="4067280"/>
          <a:ext cx="339084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4067280"/>
                    <a:ext cx="339084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Group 5"/>
          <p:cNvGrpSpPr/>
          <p:nvPr/>
        </p:nvGrpSpPr>
        <p:grpSpPr>
          <a:xfrm>
            <a:off x="3124080" y="4952880"/>
            <a:ext cx="2667240" cy="1135440"/>
            <a:chOff x="3124080" y="4952880"/>
            <a:chExt cx="2667240" cy="1135440"/>
          </a:xfrm>
        </p:grpSpPr>
        <p:sp>
          <p:nvSpPr>
            <p:cNvPr id="208" name="Line 6"/>
            <p:cNvSpPr/>
            <p:nvPr/>
          </p:nvSpPr>
          <p:spPr>
            <a:xfrm flipV="1">
              <a:off x="4419720" y="49528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7"/>
            <p:cNvSpPr/>
            <p:nvPr/>
          </p:nvSpPr>
          <p:spPr>
            <a:xfrm>
              <a:off x="3124080" y="5506920"/>
              <a:ext cx="26672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voltage gai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1981080"/>
            <a:ext cx="4572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Circuit Symbo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" descr="se01F11"/>
          <p:cNvPicPr/>
          <p:nvPr/>
        </p:nvPicPr>
        <p:blipFill>
          <a:blip r:embed="rId1"/>
          <a:stretch/>
        </p:blipFill>
        <p:spPr>
          <a:xfrm>
            <a:off x="152280" y="2057400"/>
            <a:ext cx="8763120" cy="2563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457200" y="4800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1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ircuit symbol for amplifie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An amplifier with a common terminal (ground) between the input and output po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and Current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in diff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ween an amplifier and transformer?  …Because both alter voltag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plifier may be used to boost power delive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1592280" y="4267080"/>
          <a:ext cx="595152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4267080"/>
                    <a:ext cx="59515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xpressing Gain in Decibe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may gain be expressed in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ecib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3503520"/>
          <a:ext cx="556740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03520"/>
                    <a:ext cx="55674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6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Power Suppl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uppli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n amplifier 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supp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ositive, cur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ra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egative, cur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ra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ower dra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from these supplies is defined be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6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Power Suppl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nservation of pow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dictates that power in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plus that drawn from supply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equal to out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plus that which is dissipated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issap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th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 of power output to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0880" y="2057400"/>
            <a:ext cx="396252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mplifier Power Suppl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se01F13"/>
          <p:cNvPicPr/>
          <p:nvPr/>
        </p:nvPicPr>
        <p:blipFill>
          <a:blip r:embed="rId1"/>
          <a:stretch/>
        </p:blipFill>
        <p:spPr>
          <a:xfrm>
            <a:off x="228600" y="2013120"/>
            <a:ext cx="8534520" cy="3701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228600" y="5883120"/>
            <a:ext cx="8686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n amplifier that requires two dc supplies (shown as batteries) for ope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basic and pervasive signal-processing function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gnal 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correspondingly, the signal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mplifiers are characteriz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modeled) as circuit building blocks independent of their internal circuit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requency respon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an amplifier is measured, and how it is calculated, especially in the simple but common case of a single-time-constant (STC) type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7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Sat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imited linear ran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actically, amplifier operation is linear over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mited input r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atur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beyond this range, saturation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remains constant as input v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3429000" y="4219560"/>
          <a:ext cx="2257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219560"/>
                    <a:ext cx="2257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rcuit Models for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ode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description of component’s (e.g. amplifier)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inal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lecting internal operation / transistor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9480" y="2133720"/>
            <a:ext cx="35816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066680" y="2666880"/>
            <a:ext cx="25146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5" descr="se01F16"/>
          <p:cNvPicPr/>
          <p:nvPr/>
        </p:nvPicPr>
        <p:blipFill>
          <a:blip r:embed="rId1"/>
          <a:srcRect l="40681" t="0" r="0" b="0"/>
          <a:stretch/>
        </p:blipFill>
        <p:spPr>
          <a:xfrm>
            <a:off x="1471680" y="4038480"/>
            <a:ext cx="5857920" cy="2438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Object 7"/>
          <p:cNvGraphicFramePr/>
          <p:nvPr/>
        </p:nvGraphicFramePr>
        <p:xfrm>
          <a:off x="152280" y="2057400"/>
          <a:ext cx="4013280" cy="19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7400"/>
                    <a:ext cx="401328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8"/>
          <p:cNvGraphicFramePr/>
          <p:nvPr/>
        </p:nvGraphicFramePr>
        <p:xfrm>
          <a:off x="4495680" y="2057400"/>
          <a:ext cx="4507200" cy="199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2057400"/>
                    <a:ext cx="45072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9"/>
          <p:cNvSpPr/>
          <p:nvPr/>
        </p:nvSpPr>
        <p:spPr>
          <a:xfrm>
            <a:off x="1905120" y="304812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6477120" y="30481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304920" y="1981080"/>
            <a:ext cx="40384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one model the amplifier behavior from previous sli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which is function of: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1459080" y="3809880"/>
          <a:ext cx="61610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3809880"/>
                    <a:ext cx="61610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12"/>
          <p:cNvSpPr/>
          <p:nvPr/>
        </p:nvSpPr>
        <p:spPr>
          <a:xfrm>
            <a:off x="1981080" y="3733920"/>
            <a:ext cx="3048120" cy="2819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13"/>
          <p:cNvSpPr/>
          <p:nvPr/>
        </p:nvSpPr>
        <p:spPr>
          <a:xfrm>
            <a:off x="5257800" y="556272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609480" y="2057400"/>
            <a:ext cx="38102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one “problem” with this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(ratio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not constant,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pendent on input and load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Object 5"/>
          <p:cNvGraphicFramePr/>
          <p:nvPr/>
        </p:nvGraphicFramePr>
        <p:xfrm>
          <a:off x="1459080" y="3809880"/>
          <a:ext cx="61610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3809880"/>
                    <a:ext cx="61610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6"/>
          <p:cNvSpPr/>
          <p:nvPr/>
        </p:nvSpPr>
        <p:spPr>
          <a:xfrm>
            <a:off x="1981080" y="3733920"/>
            <a:ext cx="3048120" cy="2819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609480" y="6095880"/>
            <a:ext cx="7925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amplifier mode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neglects this nonlinear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457200" y="1981080"/>
            <a:ext cx="33526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838080" y="2057400"/>
            <a:ext cx="27432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amplifier mode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ly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umed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umed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4495680" y="-1600200"/>
          <a:ext cx="381168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-1600200"/>
                    <a:ext cx="381168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7"/>
          <p:cNvSpPr/>
          <p:nvPr/>
        </p:nvSpPr>
        <p:spPr>
          <a:xfrm>
            <a:off x="4186080" y="6553080"/>
            <a:ext cx="609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557680" y="4267080"/>
            <a:ext cx="685800" cy="609840"/>
          </a:xfrm>
          <a:prstGeom prst="rect">
            <a:avLst/>
          </a:prstGeom>
          <a:solidFill>
            <a:srgbClr val="b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55576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Group 1"/>
          <p:cNvGrpSpPr/>
          <p:nvPr/>
        </p:nvGrpSpPr>
        <p:grpSpPr>
          <a:xfrm>
            <a:off x="838080" y="4140360"/>
            <a:ext cx="6934320" cy="1803240"/>
            <a:chOff x="838080" y="4140360"/>
            <a:chExt cx="6934320" cy="1803240"/>
          </a:xfrm>
        </p:grpSpPr>
        <p:pic>
          <p:nvPicPr>
            <p:cNvPr id="286" name="Picture 5" descr="se01F16"/>
            <p:cNvPicPr/>
            <p:nvPr/>
          </p:nvPicPr>
          <p:blipFill>
            <a:blip r:embed="rId3"/>
            <a:srcRect l="40551" t="0" r="0" b="0"/>
            <a:stretch/>
          </p:blipFill>
          <p:spPr>
            <a:xfrm>
              <a:off x="838080" y="4140360"/>
              <a:ext cx="69343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10"/>
            <p:cNvSpPr/>
            <p:nvPr/>
          </p:nvSpPr>
          <p:spPr>
            <a:xfrm>
              <a:off x="3619440" y="4572000"/>
              <a:ext cx="685800" cy="609480"/>
            </a:xfrm>
            <a:prstGeom prst="rect">
              <a:avLst/>
            </a:prstGeom>
            <a:solidFill>
              <a:srgbClr val="b9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Oval 11"/>
          <p:cNvSpPr/>
          <p:nvPr/>
        </p:nvSpPr>
        <p:spPr>
          <a:xfrm>
            <a:off x="36529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3652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228600" y="5807160"/>
            <a:ext cx="8686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key characteristics of ideal voltage amplifier mode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igh input impedance, low output imped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124080" y="3657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-ideal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48120" y="4114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deal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609480" y="2133720"/>
            <a:ext cx="28958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838080" y="2057400"/>
            <a:ext cx="27432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amplifier mode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ly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umed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umed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2394000" y="3684600"/>
          <a:ext cx="438768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4000" y="3684600"/>
                    <a:ext cx="43876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17"/>
          <p:cNvSpPr/>
          <p:nvPr/>
        </p:nvSpPr>
        <p:spPr>
          <a:xfrm>
            <a:off x="228600" y="5807160"/>
            <a:ext cx="8686800" cy="875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key characteristics of ideal voltage amplifier mode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urce resistan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nd load resistan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have no effect on 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ascaded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 real life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 amplifier is not ideal and will not have infinite input impedance or zero output impe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asca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mplifiers, however, may be us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mphasize desirable characteris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rst amplifier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hig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ediu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st amplifi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mediu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lo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ggregat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lo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3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caded Amplifier Configur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system of cascaded amplifiers on next sl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over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a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over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a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c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over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a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3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caded Amplifier Configur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se01F17"/>
          <p:cNvPicPr/>
          <p:nvPr/>
        </p:nvPicPr>
        <p:blipFill>
          <a:blip r:embed="rId1"/>
          <a:stretch/>
        </p:blipFill>
        <p:spPr>
          <a:xfrm>
            <a:off x="304920" y="2089080"/>
            <a:ext cx="8610480" cy="27115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990720" y="5105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7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ree-stage amplifier for Example 1.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2362320" y="1981080"/>
            <a:ext cx="518148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7"/>
          <p:cNvSpPr/>
          <p:nvPr/>
        </p:nvSpPr>
        <p:spPr>
          <a:xfrm>
            <a:off x="1295280" y="304920"/>
            <a:ext cx="6324840" cy="4647960"/>
          </a:xfrm>
          <a:custGeom>
            <a:avLst/>
            <a:gdLst/>
            <a:ahLst/>
            <a:rect l="l" t="t" r="r" b="b"/>
            <a:pathLst>
              <a:path w="3984" h="2928">
                <a:moveTo>
                  <a:pt x="0" y="0"/>
                </a:moveTo>
                <a:lnTo>
                  <a:pt x="0" y="2928"/>
                </a:lnTo>
                <a:lnTo>
                  <a:pt x="3984" y="1488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371600" y="17524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ggregate amplifie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ith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Object 9"/>
          <p:cNvGraphicFramePr/>
          <p:nvPr/>
        </p:nvGraphicFramePr>
        <p:xfrm>
          <a:off x="1936800" y="2793960"/>
          <a:ext cx="2178000" cy="10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6800" y="2793960"/>
                    <a:ext cx="2178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igna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s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voice of radio announcer reading the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roces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peration which allows an observer to understand this information from a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d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ransduc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device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verts sig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non-electrical to electrical f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microphone (sound to electric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her Amplifier Typ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se01T01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4307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"/>
          <p:cNvSpPr/>
          <p:nvPr/>
        </p:nvSpPr>
        <p:spPr>
          <a:xfrm>
            <a:off x="228600" y="177336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oltage ampl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4724280" y="177336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urrent ampl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28600" y="428796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conductance a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724280" y="428796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resistance a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her Amplifier Typ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7" descr="se01T01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430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Object 9"/>
          <p:cNvGraphicFramePr/>
          <p:nvPr/>
        </p:nvGraphicFramePr>
        <p:xfrm>
          <a:off x="258840" y="5370480"/>
          <a:ext cx="3967200" cy="133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9" descr=""/>
                  <p:cNvPicPr/>
                  <p:nvPr/>
                </p:nvPicPr>
                <p:blipFill>
                  <a:blip r:embed="rId3">
                    <a:alphaModFix amt="90000"/>
                  </a:blip>
                  <a:stretch/>
                </p:blipFill>
                <p:spPr>
                  <a:xfrm>
                    <a:off x="258840" y="5370480"/>
                    <a:ext cx="39672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0"/>
          <p:cNvGraphicFramePr/>
          <p:nvPr/>
        </p:nvGraphicFramePr>
        <p:xfrm>
          <a:off x="4835520" y="1523880"/>
          <a:ext cx="40035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10" descr=""/>
                  <p:cNvPicPr/>
                  <p:nvPr/>
                </p:nvPicPr>
                <p:blipFill>
                  <a:blip r:embed="rId5">
                    <a:alphaModFix amt="90000"/>
                  </a:blip>
                  <a:stretch/>
                </p:blipFill>
                <p:spPr>
                  <a:xfrm>
                    <a:off x="4835520" y="1523880"/>
                    <a:ext cx="40035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1"/>
          <p:cNvGraphicFramePr/>
          <p:nvPr/>
        </p:nvGraphicFramePr>
        <p:xfrm>
          <a:off x="4915080" y="5372280"/>
          <a:ext cx="3848040" cy="13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Object 11" descr=""/>
                  <p:cNvPicPr/>
                  <p:nvPr/>
                </p:nvPicPr>
                <p:blipFill>
                  <a:blip r:embed="rId7">
                    <a:alphaModFix amt="90000"/>
                  </a:blip>
                  <a:stretch/>
                </p:blipFill>
                <p:spPr>
                  <a:xfrm>
                    <a:off x="4915080" y="5372280"/>
                    <a:ext cx="38480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2"/>
          <p:cNvGraphicFramePr/>
          <p:nvPr/>
        </p:nvGraphicFramePr>
        <p:xfrm>
          <a:off x="254160" y="1523880"/>
          <a:ext cx="3966840" cy="133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Object 12" descr=""/>
                  <p:cNvPicPr/>
                  <p:nvPr/>
                </p:nvPicPr>
                <p:blipFill>
                  <a:blip r:embed="rId9">
                    <a:alphaModFix amt="90000"/>
                  </a:blip>
                  <a:stretch/>
                </p:blipFill>
                <p:spPr>
                  <a:xfrm>
                    <a:off x="254160" y="1523880"/>
                    <a:ext cx="396684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Text Box 13"/>
          <p:cNvSpPr/>
          <p:nvPr/>
        </p:nvSpPr>
        <p:spPr>
          <a:xfrm>
            <a:off x="1066680" y="385452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voltage amplifi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5638680" y="385452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current amplifi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-380880" y="438768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transconductance amplifi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4114800" y="43876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transresistance amplifi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Relationshi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ween Four Amp Mode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rchangeabil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lthough these four types exist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y of the fo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 be used to model any ampl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elated through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pen circuit ga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362320" y="3886200"/>
          <a:ext cx="43783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886200"/>
                    <a:ext cx="43783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termining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lculate input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erminal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ser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alculate vi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lculate output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erminal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source voltage (such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 voltage to out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 negative output current (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e vi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tion 1.5.5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w can we calculate input resistance from terminal behavi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serv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calculate vi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w can we calculate output resistance from terminal behavi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source voltage (such that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y voltage to output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 negative output current (-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culate vi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-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5" descr="se01F18"/>
          <p:cNvPicPr/>
          <p:nvPr/>
        </p:nvPicPr>
        <p:blipFill>
          <a:blip r:embed="rId1"/>
          <a:stretch/>
        </p:blipFill>
        <p:spPr>
          <a:xfrm>
            <a:off x="380880" y="585720"/>
            <a:ext cx="8382240" cy="58914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380880" y="573084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8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Determining the output resi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6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lateral Mode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unilateral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one in which signal fl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ly from input to 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not rever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actical amplif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exhibit some reverse transmiss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762120" y="2057400"/>
            <a:ext cx="3200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-Emitter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ipolar junction transis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BJ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-term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powered up with dc source and operated with small signals, may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led by linear circuit be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6172200"/>
            <a:ext cx="4114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2451240" y="4073400"/>
            <a:ext cx="45590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2"/>
          <p:cNvGrpSpPr/>
          <p:nvPr/>
        </p:nvGrpSpPr>
        <p:grpSpPr>
          <a:xfrm>
            <a:off x="749160" y="4211640"/>
            <a:ext cx="1495800" cy="2129040"/>
            <a:chOff x="749160" y="4211640"/>
            <a:chExt cx="1495800" cy="2129040"/>
          </a:xfrm>
        </p:grpSpPr>
        <p:pic>
          <p:nvPicPr>
            <p:cNvPr id="367" name="Picture 10" descr="http://www.clker.com/cliparts/4/e/6/0/11970895921290543447vermeil_IEC_NPN_Transistor_Symbol.svg.hi.png"/>
            <p:cNvPicPr/>
            <p:nvPr/>
          </p:nvPicPr>
          <p:blipFill>
            <a:blip r:embed="rId2"/>
            <a:stretch/>
          </p:blipFill>
          <p:spPr>
            <a:xfrm>
              <a:off x="1143000" y="4647600"/>
              <a:ext cx="1054800" cy="12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Box 1"/>
            <p:cNvSpPr/>
            <p:nvPr/>
          </p:nvSpPr>
          <p:spPr>
            <a:xfrm>
              <a:off x="1965240" y="600336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Box 10"/>
            <p:cNvSpPr/>
            <p:nvPr/>
          </p:nvSpPr>
          <p:spPr>
            <a:xfrm>
              <a:off x="1823040" y="4211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TextBox 11"/>
            <p:cNvSpPr/>
            <p:nvPr/>
          </p:nvSpPr>
          <p:spPr>
            <a:xfrm>
              <a:off x="749160" y="5121000"/>
              <a:ext cx="29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 1.4.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polar junction transistor (BJ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terminal de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powered up with dc source and operated with small signals, may b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odeled by linear circuit belo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7" descr=""/>
          <p:cNvPicPr/>
          <p:nvPr/>
        </p:nvPicPr>
        <p:blipFill>
          <a:blip r:embed="rId1"/>
          <a:stretch/>
        </p:blipFill>
        <p:spPr>
          <a:xfrm>
            <a:off x="380880" y="949320"/>
            <a:ext cx="8534520" cy="50706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4800600" y="51055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9 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small-signal circuit model for a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  <a:ea typeface="MS PGothic"/>
              </a:rPr>
              <a:t>bipolar junction transistor (BJ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228600" y="477720"/>
            <a:ext cx="2057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200400" y="5943600"/>
            <a:ext cx="2057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m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6781680" y="477720"/>
            <a:ext cx="2057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ll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13"/>
          <p:cNvSpPr/>
          <p:nvPr/>
        </p:nvSpPr>
        <p:spPr>
          <a:xfrm flipH="1">
            <a:off x="2362320" y="457200"/>
            <a:ext cx="45720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14"/>
          <p:cNvSpPr/>
          <p:nvPr/>
        </p:nvSpPr>
        <p:spPr>
          <a:xfrm>
            <a:off x="6324480" y="1143000"/>
            <a:ext cx="53352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2438280" y="152280"/>
            <a:ext cx="3810240" cy="6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put resistance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2819520" y="838080"/>
            <a:ext cx="3809880" cy="6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utput resistance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17"/>
          <p:cNvSpPr/>
          <p:nvPr/>
        </p:nvSpPr>
        <p:spPr>
          <a:xfrm flipV="1">
            <a:off x="2743200" y="3962520"/>
            <a:ext cx="23623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228600" y="5105520"/>
            <a:ext cx="2666880" cy="162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ort-circuit conductance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-Emitter Circui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pression for the voltag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common-emitter circuit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.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4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/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10480" cy="35082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2"/>
          <p:cNvSpPr/>
          <p:nvPr/>
        </p:nvSpPr>
        <p:spPr>
          <a:xfrm>
            <a:off x="914400" y="55180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9(b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e BJT connected as an amplifier with the emitter as a common terminal between input and output (called a common-emitter amplifi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4114800" y="68580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and output share common termi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228600" y="1981080"/>
            <a:ext cx="198108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228600" y="1523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7086600" y="1981080"/>
            <a:ext cx="18288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7010280" y="1523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1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signals repres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hevenin for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sourc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series resista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rable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norton 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sourc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arallel resista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rable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does one exam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requency respo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pplying sine-wav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of amplitud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frequenc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cause, although its amplitude and phase may change, it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ape and frequency will n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easuring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plifier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228600" y="5105520"/>
            <a:ext cx="8763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characteristic of sine wave applied to linear circuit is u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762120" y="2133720"/>
            <a:ext cx="3124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1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easuring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plifier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4" descr="se01F20"/>
          <p:cNvPicPr/>
          <p:nvPr/>
        </p:nvPicPr>
        <p:blipFill>
          <a:blip r:embed="rId1"/>
          <a:stretch/>
        </p:blipFill>
        <p:spPr>
          <a:xfrm>
            <a:off x="228600" y="2311560"/>
            <a:ext cx="8610480" cy="34797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1752480" y="1111320"/>
            <a:ext cx="5639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and output are similar for linear ampl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easuring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plifier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amplifier transfer func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describes th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put-output 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n amplifier – or other device – with respect to various parameters, including frequency of input appl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omplex val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ften defined in terms of magnitude and phase shi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7" name="Object 4"/>
          <p:cNvGraphicFramePr/>
          <p:nvPr/>
        </p:nvGraphicFramePr>
        <p:xfrm>
          <a:off x="2174760" y="5083200"/>
          <a:ext cx="483552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760" y="5083200"/>
                    <a:ext cx="483552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Bandwidt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dev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range of frequencies over which it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gnitude response is consta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ithin 3dB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n amplifier, what is main bandwidth conce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the bandwid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tends beyo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of frequencies it is expected to ampl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Bandwidt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se01F21"/>
          <p:cNvPicPr/>
          <p:nvPr/>
        </p:nvPicPr>
        <p:blipFill>
          <a:blip r:embed="rId1"/>
          <a:stretch/>
        </p:blipFill>
        <p:spPr>
          <a:xfrm>
            <a:off x="380880" y="2133720"/>
            <a:ext cx="7578720" cy="390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Time-Constant Netwo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ingle time–constant (STC) netwo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composed of (or may be reduced to)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ctive component and one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ow pass filt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ttenuates output at high frequencies, allow low to 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high pass filt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ttenuates output at low frequencies, allow high to 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ime constant (</a:t>
            </a:r>
            <a:r>
              <a:rPr b="0" i="1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escribes the length of time required for a network transient to settle from step change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762120" y="2057400"/>
            <a:ext cx="32004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Time-Constant Netwo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pass filter (left)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enuates output at high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ass filter (righ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4" descr="se01F22"/>
          <p:cNvPicPr/>
          <p:nvPr/>
        </p:nvPicPr>
        <p:blipFill>
          <a:blip r:embed="rId1"/>
          <a:stretch/>
        </p:blipFill>
        <p:spPr>
          <a:xfrm>
            <a:off x="614520" y="3505320"/>
            <a:ext cx="7386480" cy="29430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"/>
          <p:cNvSpPr/>
          <p:nvPr/>
        </p:nvSpPr>
        <p:spPr>
          <a:xfrm>
            <a:off x="4419720" y="20890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2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 examples of STC network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a low-pass network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a high-pass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1371600" y="25909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Line 8"/>
          <p:cNvSpPr/>
          <p:nvPr/>
        </p:nvSpPr>
        <p:spPr>
          <a:xfrm>
            <a:off x="4038480" y="3124080"/>
            <a:ext cx="121932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Time-Constant Netwo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4" descr="se01F22"/>
          <p:cNvPicPr/>
          <p:nvPr/>
        </p:nvPicPr>
        <p:blipFill>
          <a:blip r:embed="rId1"/>
          <a:stretch/>
        </p:blipFill>
        <p:spPr>
          <a:xfrm>
            <a:off x="614520" y="3505320"/>
            <a:ext cx="7386480" cy="29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952640" y="277920"/>
          <a:ext cx="5210280" cy="28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2640" y="277920"/>
                    <a:ext cx="521028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Line 12"/>
          <p:cNvSpPr/>
          <p:nvPr/>
        </p:nvSpPr>
        <p:spPr>
          <a:xfrm>
            <a:off x="2209680" y="1295280"/>
            <a:ext cx="0" cy="266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13"/>
          <p:cNvSpPr/>
          <p:nvPr/>
        </p:nvSpPr>
        <p:spPr>
          <a:xfrm>
            <a:off x="3200400" y="2514600"/>
            <a:ext cx="19810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Time-Constant Netwo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1600200" y="531720"/>
          <a:ext cx="59436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31720"/>
                    <a:ext cx="59436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4" descr="se01F24"/>
          <p:cNvPicPr/>
          <p:nvPr/>
        </p:nvPicPr>
        <p:blipFill>
          <a:blip r:embed="rId1"/>
          <a:stretch/>
        </p:blipFill>
        <p:spPr>
          <a:xfrm>
            <a:off x="228600" y="4495680"/>
            <a:ext cx="8610480" cy="21322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se01F23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20066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2"/>
          <p:cNvSpPr/>
          <p:nvPr/>
        </p:nvSpPr>
        <p:spPr>
          <a:xfrm>
            <a:off x="914400" y="2819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Low-Pass Filter Magnitude (top-left) and Phase (top-right) Responses as well as High-Pass Filter (bottom-left) and Phase (bottom-right)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09480" y="2133720"/>
            <a:ext cx="327672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se01F01"/>
          <p:cNvPicPr/>
          <p:nvPr/>
        </p:nvPicPr>
        <p:blipFill>
          <a:blip r:embed="rId1"/>
          <a:stretch/>
        </p:blipFill>
        <p:spPr>
          <a:xfrm>
            <a:off x="228600" y="2209680"/>
            <a:ext cx="8686800" cy="3557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28600" y="5883120"/>
            <a:ext cx="8686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 alternative representations of a signal source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the Thévenin form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the Norton fo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4" descr="se01F24"/>
          <p:cNvPicPr/>
          <p:nvPr/>
        </p:nvPicPr>
        <p:blipFill>
          <a:blip r:embed="rId1"/>
          <a:stretch/>
        </p:blipFill>
        <p:spPr>
          <a:xfrm>
            <a:off x="228600" y="4495680"/>
            <a:ext cx="8610480" cy="2132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se01F23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200664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2"/>
          <p:cNvSpPr/>
          <p:nvPr/>
        </p:nvSpPr>
        <p:spPr>
          <a:xfrm>
            <a:off x="914400" y="2819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Calibri"/>
                <a:ea typeface="MS PGothic"/>
              </a:rPr>
              <a:t>Figure: </a:t>
            </a:r>
            <a:r>
              <a:rPr b="0" lang="en-US" sz="2400" spc="-1" strike="noStrike">
                <a:solidFill>
                  <a:srgbClr val="c0c0c0"/>
                </a:solidFill>
                <a:latin typeface="Calibri"/>
                <a:ea typeface="MS PGothic"/>
              </a:rPr>
              <a:t>Low-Filter Magnitude (top-left) and Phase (top-right) Responses as well as High-Pass Filter (bottom-left) and Phase (bottom-right)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1922040" y="802800"/>
            <a:ext cx="1261080" cy="98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474480" y="5069880"/>
            <a:ext cx="1261080" cy="98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5808240" y="802800"/>
            <a:ext cx="1261080" cy="98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Line 17"/>
          <p:cNvSpPr/>
          <p:nvPr/>
        </p:nvSpPr>
        <p:spPr>
          <a:xfrm>
            <a:off x="6036840" y="5146200"/>
            <a:ext cx="1261080" cy="98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228600" y="22096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20dB/decade drop, beginning from maximum gain at corne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228600" y="37656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20dB/decade incline, until maximum gain is reached at corne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4724280" y="22096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45 degrees/decade drop, moving outward from -45 degree shift at corne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4724280" y="3733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45 degrees/decade drop, moving outward from +45 degree shift at corne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0" y="1981080"/>
            <a:ext cx="4800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Amplifi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voltage amplifier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capaci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factor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pression for the amplifier voltag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function of frequency.  From this, find expressions for the dc gain and 3</a:t>
            </a:r>
            <a:r>
              <a:rPr b="0" i="1" lang="en-US" sz="2800" spc="-1" strike="noStrike">
                <a:solidFill>
                  <a:srgbClr val="777777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0" y="1981080"/>
            <a:ext cx="4800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Amplifi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4" descr="se01F25"/>
          <p:cNvPicPr/>
          <p:nvPr/>
        </p:nvPicPr>
        <p:blipFill>
          <a:blip r:embed="rId1"/>
          <a:stretch/>
        </p:blipFill>
        <p:spPr>
          <a:xfrm>
            <a:off x="152280" y="3276720"/>
            <a:ext cx="8610840" cy="21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unity-gain frequency?  How is it calcula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ain = 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known that the gain of a low-pass filter drops at 20dB per decade beginning 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Therefore unity gain will occur two decades pas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4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2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2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c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for each of the following input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lassification of Amps Based on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rnal capacita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cause the falloff of gain at high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those seen in previou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upling capaci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cause the falloff of gain at low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laced in between amplifier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chosen to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lassification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ps Based on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rectly coupled / dc amplifier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llow passage of low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apacitively coupled amplifier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llow passage of high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uned amplif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llow passage of a “band” of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 electrical signal source can be represented in either Thevenin form (a voltage sour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 series with source resistan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or the Norton form (a current sour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 parallel with resistan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hevenin volt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open-circuit voltage between the source terminals.  The Norton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equal to the short-circuit current between the source terminals.  For the two representations to be equivalent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eq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 signal can be represented either by its waveform vs time or as the sum of sinusoid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The latter representation is known as the frequency spectrum of the sig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sine-wave signal is completely characterized by its peak val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r rms value which is the peak /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frequenc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rad/s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period is seconds)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and pha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respect to an arbitrary reference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alog signals have magnitudes that can assume any value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ircuits that process analog signals are called analog circuits.  Sampling the magnitude of an analog signal at discrete instants of time and representing each signal sample by a number results in a digital signal.  Digital signals are processed by digital circu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simplest digital signals are obtained when the binary number system is used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dividual digital signal then assumes one of only two possible values: low and high (e.g. 0V and 5V) corresponding to logic 0 and logic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 analog-to-digital converter (ADC) provides at its output the digits of the binary number representing the analog signal sample applied to its input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utput digital signal can then be processed using digital circu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 transfer characteristic,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vs.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of a linear amplifier is a straight line with a slope equal to the voltage gai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mplifiers increase the signal power and thus require dc power supplies for their ope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amplifier voltage gain can be expressed as a ratio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or in decibels, 20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| in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signal to be amplified (voltage or current) and on the desired form of output signal (voltage or current) there ar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ur basic amplifier types: voltage, current, transconductance, and transresistanc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A given amplifier may be modeled by any of these configurations, in which case their parameters are related by (1.14) through (1.16) in the 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 1.1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venin and Norton Equivalent Sourc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source / lo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binations to upper-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note</a:t>
            </a:r>
            <a:r>
              <a:rPr b="1" lang="en-US" sz="28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that output resistance of a source limits its ability to deliver a signal at full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the relationship between the source and output wh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um pow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delive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for example,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 &lt;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??? 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 &gt;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??? 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 = 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values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norton and thevenin represent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e01F02"/>
          <p:cNvPicPr/>
          <p:nvPr/>
        </p:nvPicPr>
        <p:blipFill>
          <a:blip r:embed="rId1"/>
          <a:stretch/>
        </p:blipFill>
        <p:spPr>
          <a:xfrm>
            <a:off x="5181480" y="228600"/>
            <a:ext cx="3702240" cy="112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sinusoid is the only signal whose waveform is unchanged through a linear circuit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usoidal signals are used to measure the frequency response of ampl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transfer functio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=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/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of a voltage amplifier may be determined from circuit analysis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titut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iv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whose magnitude (|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| is the magnitude response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s the phase respon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mplifiers are classified according to the shape of their frequency respon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686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ngle-time-constant (STC) networks are those networks that are composed of, or may be reduced to, one reactive component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and one resistanc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The time constant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TC networks can be classified into two categories: low-pass (LP) and high-pass (HP)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P network pass dc and low-frequencies while attenuating high-frequencies.  The opposite is true for H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gain of an LP (HP) STC circuit drops by 3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elow the zero-frequency (infinite-frequency) value at a frequency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1/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At high-frequencies (low-frequencies) the gain falls of at a rate of 6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octave or 20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deca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Calibri"/>
              </a:rPr>
              <a:t>Refer to Table 1.2. on page 34 and Figs. 1.23 and 1.24.  Further details are provided in Appendix 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requency Spectrum of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frequency spectr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efines the a time-domain signal in terms of the strength of harmonic 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a Fourier Se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pression of a periodic function a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m of an infinite number of sinuso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ose frequencies are harmonically re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6400800" y="0"/>
            <a:ext cx="38577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a Fourier Series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400800" y="-152280"/>
            <a:ext cx="4191120" cy="7315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533520" y="3171960"/>
          <a:ext cx="527364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171960"/>
                    <a:ext cx="527364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ecomposi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of a periodic function into the (possibly infinite) sum of simpler oscillating fu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5-30T15:22:48Z</dcterms:modified>
  <cp:revision>402</cp:revision>
  <dc:subject/>
  <dc:title>Slide 1</dc:title>
</cp:coreProperties>
</file>